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FC1-1A81-460F-815D-2081A06F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1D4-314C-4209-A8A6-AF31CB8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047-98CB-4E66-8AE6-F3609C1B3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47C-7E3C-409A-8FF9-2C997682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D202-03CC-421C-A2F5-2CBE79BD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7E2-DF8C-4A70-9E22-952FD730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8F3-0CEB-4524-8420-C2E53C67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67D-C212-486A-85E6-DB9DC9E1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C22D-0098-49BE-98D5-714AD405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836-F70B-4B8D-8C76-3AC5B7F7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4B70-6FCF-4A55-8D76-82BE03BE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11C-BEFB-457E-A261-AECB08CB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179B-CBA5-4E40-8D04-C07A87B21D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3" name="TextBox 5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C7FB3FC-3F8E-4B19-B048-AE285B435B7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28760" y="2133720"/>
            <a:ext cx="842940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1.1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∙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στιν ὁ προφητης Ἰησ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saying: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prophe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14.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ειν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ρ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κο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ρῳδ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a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ime Herod heard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905120" y="11732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2.3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3120" y="2000160"/>
            <a:ext cx="850104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ther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ne another) both decline like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3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ἄλλ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λοια ἠν μετ’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oats were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4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πρ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λλη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they were say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one an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C464F237-7C50-4764-90D1-80632386FF9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BA250C1B-71C7-4B2F-9DF3-856255E24A8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428920" y="1123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3.1 Pronou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7200" y="1790640"/>
          <a:ext cx="8786880" cy="3353040"/>
        </p:xfrm>
        <a:graphic>
          <a:graphicData uri="http://schemas.openxmlformats.org/drawingml/2006/table">
            <a:tbl>
              <a:tblPr/>
              <a:tblGrid>
                <a:gridCol w="900360"/>
                <a:gridCol w="1290600"/>
                <a:gridCol w="1460520"/>
                <a:gridCol w="1117440"/>
                <a:gridCol w="1031760"/>
                <a:gridCol w="939960"/>
                <a:gridCol w="1100160"/>
                <a:gridCol w="946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me, 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us, 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you, 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73"/>
          <p:cNvSpPr/>
          <p:nvPr/>
        </p:nvSpPr>
        <p:spPr>
          <a:xfrm>
            <a:off x="357120" y="5357880"/>
            <a:ext cx="8229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ο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self means 'we untie'. There is no need for a word for 'we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428760" y="1773360"/>
            <a:ext cx="82486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al. 5.2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Greek"/>
                <a:ea typeface="Times New Roman"/>
              </a:rPr>
              <a:t>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γ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υλος 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ὑμ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ul te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2.2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σ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κ της ὡρας ταυτ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Sa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this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21.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αὐ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ῳ∙ Κυριε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ινωσκεις ὁτι 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he said … 'Do  you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' … and he said to him, 'Lor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know that I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724EFCCF-CDC6-48B1-9D61-34BADEA5FD2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E13242B9-B264-47EB-9E0B-B7DBEFC534A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52480" y="1752480"/>
            <a:ext cx="563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2 Reflexive Pronou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971800"/>
          <a:ext cx="6705360" cy="2011320"/>
        </p:xfrm>
        <a:graphic>
          <a:graphicData uri="http://schemas.openxmlformats.org/drawingml/2006/table">
            <a:tbl>
              <a:tblPr/>
              <a:tblGrid>
                <a:gridCol w="2347920"/>
                <a:gridCol w="43574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866960" y="142884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3 Possessive Adjec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2286000"/>
            <a:ext cx="77724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ommonly by usin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genitive of the personal pronouns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of me, of you, of us, of you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, in the singular you can use a special ad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928960" y="4786200"/>
          <a:ext cx="3090960" cy="1006560"/>
        </p:xfrm>
        <a:graphic>
          <a:graphicData uri="http://schemas.openxmlformats.org/drawingml/2006/table">
            <a:tbl>
              <a:tblPr/>
              <a:tblGrid>
                <a:gridCol w="2168640"/>
                <a:gridCol w="9223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Box 4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F608AC25-C2B6-4E45-A4DA-774630ED538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6DA7C56-66FA-4BFD-9DB8-022A150D424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00040" y="3500280"/>
            <a:ext cx="792972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0.2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ἐστε ἐκ των προβατων τω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 are not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heep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20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ὁ θε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rd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G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1357200"/>
            <a:ext cx="7138800" cy="18997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My words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υ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not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οι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Compare: 'his words'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ι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)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μ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need the arti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0D04D6E3-9C68-4552-8F99-DC427253E7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24160" y="159552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1 Timid words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71520" y="2814480"/>
            <a:ext cx="6572160" cy="2235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/ f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not come as the first wo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609ED8E8-68EE-4761-9FB8-E2CD78E9024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04920" y="2556000"/>
            <a:ext cx="86104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θεραπε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eal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hes. 2.2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ε ἡ δοξα ἡμων και ἡ χα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you are our glory and joy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142720" y="2490840"/>
            <a:ext cx="1667160" cy="223920"/>
            <a:chOff x="2142720" y="2490840"/>
            <a:chExt cx="1667160" cy="223920"/>
          </a:xfrm>
        </p:grpSpPr>
        <p:sp>
          <p:nvSpPr>
            <p:cNvPr id="151" name="Line 5"/>
            <p:cNvSpPr/>
            <p:nvPr/>
          </p:nvSpPr>
          <p:spPr>
            <a:xfrm flipH="1">
              <a:off x="29761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 flipH="1">
              <a:off x="21427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21430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 flipV="1">
              <a:off x="38098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"/>
          <p:cNvSpPr/>
          <p:nvPr/>
        </p:nvSpPr>
        <p:spPr>
          <a:xfrm>
            <a:off x="304920" y="194616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5948EA8-32D7-4D24-97BB-332B6EE6638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0" y="13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57200" y="2143080"/>
            <a:ext cx="76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cede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order to express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7120" y="3000240"/>
            <a:ext cx="830592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ιζεσθε ἑαυτους εἰν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νεκρ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ῃ ἁμαρτιᾳ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ζωντα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Rom 6.11) – consider yourselves to be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 the on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dead to sin but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the other 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alive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786200" y="3670200"/>
            <a:ext cx="1643040" cy="214560"/>
            <a:chOff x="4786200" y="3670200"/>
            <a:chExt cx="1643040" cy="214560"/>
          </a:xfrm>
        </p:grpSpPr>
        <p:sp>
          <p:nvSpPr>
            <p:cNvPr id="162" name="Line 7"/>
            <p:cNvSpPr/>
            <p:nvPr/>
          </p:nvSpPr>
          <p:spPr>
            <a:xfrm flipH="1">
              <a:off x="560772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 flipH="1">
              <a:off x="478620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78620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 flipV="1">
              <a:off x="642924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1271160" y="4348080"/>
            <a:ext cx="1371960" cy="152640"/>
            <a:chOff x="1271160" y="4348080"/>
            <a:chExt cx="1371960" cy="152640"/>
          </a:xfrm>
        </p:grpSpPr>
        <p:sp>
          <p:nvSpPr>
            <p:cNvPr id="167" name="Line 12"/>
            <p:cNvSpPr/>
            <p:nvPr/>
          </p:nvSpPr>
          <p:spPr>
            <a:xfrm flipH="1">
              <a:off x="19569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 flipH="1">
              <a:off x="12711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12715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 flipV="1">
              <a:off x="26431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39760" y="1414440"/>
            <a:ext cx="864864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Cor. 1.12: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καστος ὑμων λεγει∙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μι Παυλου, ἐγω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’Απολλω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ηφα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Χρισ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Each of you says, 'I am Paul's, I am Apollos', I a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phas', I am Christ's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ts 14.4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ἠσαν συν τοις Ἰουδαιοις,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συ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τοις ἀποστολο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Jews 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ostles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CD06BC4B-726C-4558-BFD3-2353A8C8EE6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743200" y="10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1.1 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6200" y="2035080"/>
          <a:ext cx="7854840" cy="4108680"/>
        </p:xfrm>
        <a:graphic>
          <a:graphicData uri="http://schemas.openxmlformats.org/drawingml/2006/table">
            <a:tbl>
              <a:tblPr/>
              <a:tblGrid>
                <a:gridCol w="1166760"/>
                <a:gridCol w="1127160"/>
                <a:gridCol w="2012760"/>
                <a:gridCol w="1890720"/>
                <a:gridCol w="165744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02"/>
          <p:cNvSpPr/>
          <p:nvPr/>
        </p:nvSpPr>
        <p:spPr>
          <a:xfrm>
            <a:off x="928800" y="142884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8C865797-063E-4C6A-A152-160B78853A9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6C246A26-0613-40B4-B777-5D2928A822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981080" y="1214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3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3960" y="1857240"/>
            <a:ext cx="769608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weak ‘but’, where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α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presses 'but' more strongly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lso used just with the article (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point out that the subject has chang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6.38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ουσιν αὐτῳ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δε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αὐτοις,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σους ἀρτους ἐχ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y said to him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e 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, 'How many loaves of brea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do you have?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2666880" y="1143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4.4 Use of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85840" y="1643040"/>
            <a:ext cx="878688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rmally means 'and‘, but can also be used to give emphasis, equivalent to 'also' or 'even‘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often followed b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iving the meaning 'both … and'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2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ἐστιν ὁ υἱος του ἀνθρωπ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σαββα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 of man is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ver the Sabb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(ὡν) ἠρξατο ὁ Ἰησους ποιε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which) Jesus bega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d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e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D30C0C0B-F999-4DF0-8113-57DD0E484B0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857160" y="1400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9720" y="1963800"/>
          <a:ext cx="7305480" cy="4108320"/>
        </p:xfrm>
        <a:graphic>
          <a:graphicData uri="http://schemas.openxmlformats.org/drawingml/2006/table">
            <a:tbl>
              <a:tblPr/>
              <a:tblGrid>
                <a:gridCol w="1104840"/>
                <a:gridCol w="1068480"/>
                <a:gridCol w="1904760"/>
                <a:gridCol w="1791000"/>
                <a:gridCol w="143640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DE48FD84-98B7-4711-847B-8AA833D423A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57120" y="1179360"/>
            <a:ext cx="8572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ndings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re actually the same as f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ο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gins with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most of its forms; rough breathing in the nom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sc. and fem., sing. and plural, the same as in the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irst vowel fluctuates betwe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 it matches the second vowel.  If the second vowel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the first vowel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but if i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it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28800" y="4238640"/>
            <a:ext cx="7277040" cy="2356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itially, what is important is simply to be able to recognise the forms of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Greek. This is relatively easy, but watch for the forms without th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805BAA6-B67D-4FD5-9982-B8D7E7C8109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790640" y="194940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1.2 Us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00080" y="2635200"/>
            <a:ext cx="742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Use as pronou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ἐκειν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saw those (peop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εται 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He will begin these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08E1933D-728E-42DF-BCA7-4C312D40F74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77F4470D-9D7B-4361-9993-B7AF50834F5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90720" y="1500120"/>
            <a:ext cx="716256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se as adject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article must always be used in addition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y are placed in the predicative word orde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English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br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is the broth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line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θ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it is used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it comes before the articl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hole crowd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 ὁ ὀχ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ὁλος ὀχ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447920" y="1214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2.1 Further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3280" y="2168640"/>
            <a:ext cx="891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 be used as an adjectiv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jective meaning 'sam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rmal attributive position (between article and no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 adjective (himself, herself, itself, themsel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ing before the article (predicative position) 'for emphasis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1EE82025-3B61-4CE1-A8A4-AFD7DB55667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0B543642-4AE9-4488-9E77-0DE29448550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14200" y="1643040"/>
            <a:ext cx="864396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am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μαθη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λε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sciples s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or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552760" y="116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3480" y="1781280"/>
            <a:ext cx="9144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reflexive pronoun (himself, herself, itself, themselves) 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ines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 σωζε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ἑαυτ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save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αὐτο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 σωζει τον λα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aves the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4200480"/>
            <a:ext cx="6858000" cy="1959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You can tell whether 'himself' etc.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or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by deleting it. If the sentence's basic meaning is unaltered,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, if not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7AA5CDFB-38ED-4F30-BD39-D1F7E51FC4B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3:19:25Z</dcterms:created>
  <dc:creator>Sarah</dc:creator>
  <dc:description/>
  <dc:language>en-US</dc:language>
  <cp:lastModifiedBy>Sarah</cp:lastModifiedBy>
  <dcterms:modified xsi:type="dcterms:W3CDTF">2008-09-08T11:33:36Z</dcterms:modified>
  <cp:revision>64</cp:revision>
  <dc:subject/>
  <dc:title>Slide 1</dc:title>
</cp:coreProperties>
</file>